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072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1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2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i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е и опште особине киселина и база</a:t>
            </a:r>
            <a:br>
              <a:rPr sz="2800"/>
            </a:b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труктуре на киселост органских једињењ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растварача на равнотежу киселина-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и ути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ело-базнним особ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шћу да поспеше дисоцијацију једињења која имају изразито поларне ковалентн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Cl и HCl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е 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овати по јачинии у води: 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 су много јаче киселине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нијум) јона – најј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киселине у воде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рћетној киселини као растварачу киселине које су јакe у води могу с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ђати у н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HC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H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CF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C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eft Brace 1"/>
          <p:cNvSpPr/>
          <p:nvPr/>
        </p:nvSpPr>
        <p:spPr>
          <a:xfrm rot="16200000">
            <a:off x="4035960" y="-284760"/>
            <a:ext cx="504720" cy="692316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6923160"/>
              <a:gd name="textAreaBottom" fmla="*/ 6910200 h 692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1"/>
                </a:cubicBezTo>
                <a:lnTo>
                  <a:pt x="10800" y="10669"/>
                </a:lnTo>
                <a:cubicBezTo>
                  <a:pt x="10800" y="10735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1"/>
                </a:cubicBezTo>
                <a:lnTo>
                  <a:pt x="10800" y="21469"/>
                </a:lnTo>
                <a:cubicBezTo>
                  <a:pt x="10800" y="2153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727440" y="3479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664000" y="44528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електрична конст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лватацио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труктуре на киселос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 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карбоксилних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12476" t="37795" r="37825" b="11053"/>
          <a:stretch/>
        </p:blipFill>
        <p:spPr>
          <a:xfrm>
            <a:off x="1763640" y="2924280"/>
            <a:ext cx="4824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rcRect l="6234" t="28223" r="31787" b="12825"/>
          <a:stretch/>
        </p:blipFill>
        <p:spPr>
          <a:xfrm>
            <a:off x="1187280" y="1413000"/>
            <a:ext cx="6697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rcRect l="6234" t="21166" r="27251" b="14336"/>
          <a:stretch/>
        </p:blipFill>
        <p:spPr>
          <a:xfrm>
            <a:off x="1116000" y="1341360"/>
            <a:ext cx="67039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5" descr=""/>
          <p:cNvPicPr/>
          <p:nvPr/>
        </p:nvPicPr>
        <p:blipFill>
          <a:blip r:embed="rId1"/>
          <a:srcRect l="12955" t="22175" r="34673" b="14016"/>
          <a:stretch/>
        </p:blipFill>
        <p:spPr>
          <a:xfrm>
            <a:off x="468360" y="1628640"/>
            <a:ext cx="5106960" cy="4668840"/>
          </a:xfrm>
          <a:prstGeom prst="rect">
            <a:avLst/>
          </a:prstGeom>
          <a:ln w="0">
            <a:noFill/>
          </a:ln>
        </p:spPr>
      </p:pic>
      <p:sp>
        <p:nvSpPr>
          <p:cNvPr id="68" name="Right Brace 3"/>
          <p:cNvSpPr/>
          <p:nvPr/>
        </p:nvSpPr>
        <p:spPr>
          <a:xfrm>
            <a:off x="5003640" y="2349360"/>
            <a:ext cx="216000" cy="3600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3600720"/>
              <a:gd name="textAreaBottom" fmla="*/ 35953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273280" y="3362400"/>
            <a:ext cx="40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је редослед кисел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? Објаснити утица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г супститу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е карбоксилне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116000" y="2216160"/>
            <a:ext cx="7164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алкохо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"/>
          <p:cNvPicPr/>
          <p:nvPr/>
        </p:nvPicPr>
        <p:blipFill>
          <a:blip r:embed="rId1"/>
          <a:srcRect l="7939" t="29734" r="30274" b="13573"/>
          <a:stretch/>
        </p:blipFill>
        <p:spPr>
          <a:xfrm>
            <a:off x="1332000" y="1989000"/>
            <a:ext cx="626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фено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5" descr=""/>
          <p:cNvPicPr/>
          <p:nvPr/>
        </p:nvPicPr>
        <p:blipFill>
          <a:blip r:embed="rId1"/>
          <a:srcRect l="3968" t="27466" r="28945" b="12318"/>
          <a:stretch/>
        </p:blipFill>
        <p:spPr>
          <a:xfrm>
            <a:off x="1403280" y="2205000"/>
            <a:ext cx="5905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11" descr=""/>
          <p:cNvPicPr/>
          <p:nvPr/>
        </p:nvPicPr>
        <p:blipFill>
          <a:blip r:embed="rId1"/>
          <a:srcRect l="6991" t="21166" r="32163" b="10049"/>
          <a:stretch/>
        </p:blipFill>
        <p:spPr>
          <a:xfrm>
            <a:off x="1042920" y="1197000"/>
            <a:ext cx="6635880" cy="528300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3"/>
          <p:cNvCxnSpPr/>
          <p:nvPr/>
        </p:nvCxnSpPr>
        <p:spPr>
          <a:xfrm flipV="1">
            <a:off x="7020000" y="3788640"/>
            <a:ext cx="792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TextBox 4"/>
          <p:cNvSpPr/>
          <p:nvPr/>
        </p:nvSpPr>
        <p:spPr>
          <a:xfrm>
            <a:off x="7785000" y="331488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henius-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тео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220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 које дисоцијацијом у воденом раствору даје позитивне јоне водоника и друге негативне јоне (негативне јоне киселинског остат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 које дисоцијацијом у воденом раствору даје негативне хидроксидне јоне и друге позитивне јоне (позитивне јоне метала, услов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2700360" y="4653000"/>
          <a:ext cx="352728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653000"/>
                    <a:ext cx="3527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7" descr=""/>
          <p:cNvPicPr/>
          <p:nvPr/>
        </p:nvPicPr>
        <p:blipFill>
          <a:blip r:embed="rId1"/>
          <a:srcRect l="6050" t="24695" r="29303" b="18337"/>
          <a:stretch/>
        </p:blipFill>
        <p:spPr>
          <a:xfrm>
            <a:off x="1258920" y="148428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4724" t="22426" r="27439" b="9542"/>
          <a:stretch/>
        </p:blipFill>
        <p:spPr>
          <a:xfrm>
            <a:off x="1332000" y="1557360"/>
            <a:ext cx="6119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önsted-Lowry-je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тео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елине су донори, 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акцептори про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rcRect l="4160" t="40566" r="28572" b="11309"/>
          <a:stretch/>
        </p:blipFill>
        <p:spPr>
          <a:xfrm>
            <a:off x="1908000" y="2924280"/>
            <a:ext cx="496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rcRect l="5861" t="27215" r="47470" b="17603"/>
          <a:stretch/>
        </p:blipFill>
        <p:spPr>
          <a:xfrm>
            <a:off x="1547640" y="1484280"/>
            <a:ext cx="576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"/>
          <p:cNvPicPr/>
          <p:nvPr/>
        </p:nvPicPr>
        <p:blipFill>
          <a:blip r:embed="rId1"/>
          <a:srcRect l="4536" t="20157" r="29690" b="9537"/>
          <a:stretch/>
        </p:blipFill>
        <p:spPr>
          <a:xfrm>
            <a:off x="1547640" y="1413000"/>
            <a:ext cx="601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3968" t="22928" r="33485" b="11816"/>
          <a:stretch/>
        </p:blipFill>
        <p:spPr>
          <a:xfrm>
            <a:off x="1692360" y="1700280"/>
            <a:ext cx="5327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rcRect l="8316" t="29232" r="31407" b="18612"/>
          <a:stretch/>
        </p:blipFill>
        <p:spPr>
          <a:xfrm>
            <a:off x="755640" y="1700280"/>
            <a:ext cx="7056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is-o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тео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су донори, а киселине акцептори е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3968" t="40566" r="31953" b="12052"/>
          <a:stretch/>
        </p:blipFill>
        <p:spPr>
          <a:xfrm>
            <a:off x="1908000" y="2600280"/>
            <a:ext cx="5832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is-oвe киселине које се често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у органској синтез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7392" t="33514" r="53132" b="19119"/>
          <a:stretch/>
        </p:blipFill>
        <p:spPr>
          <a:xfrm>
            <a:off x="2340000" y="2492280"/>
            <a:ext cx="3527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9-06T14:15:31Z</dcterms:modified>
  <cp:revision>311</cp:revision>
  <dc:subject/>
  <dc:title>Slide 1</dc:title>
</cp:coreProperties>
</file>